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F56F-437E-4708-A367-C9FD6B0A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5540-2E6A-441F-8981-E3149F52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AAB64-FB7A-4E70-899F-316806AA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476AF-8823-44B2-A63F-909056FD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C9CE4-ED55-4406-B11F-DE7A3C3F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35B00-BD74-4DE0-A6AA-4F491467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2F2FF-6D21-4B5C-B384-CF369819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F4686-26E9-4060-8697-9898FF93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50310-95B0-44F5-9CE8-3AF210E4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CC317-AAB0-4D59-B927-862E48CF7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94A7B-3D27-4F6B-B0B1-ADA85262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59E91E-FFFE-4E10-9EAE-E44AB2011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DA30-2672-4CBF-BD40-EEBBE480A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0A37C-AC39-4F50-8D05-9D4942F8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BAB10C-F827-4058-91FE-19FA8F14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FAD3E-1DF2-4CA6-B683-C63B9FD4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F7ACC1-7DCE-4D83-917D-73E770F8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3DC81-550D-4120-87AB-1C05504C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F0264-8DE1-4753-9EC4-15B6BF30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87921-0A58-47D5-B1A4-8963DA4C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14782-7DA3-4AD3-8E70-63AFE156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32053-8C47-4D53-8B77-802AF2D9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EE921-5A10-4E1B-B149-ECED29F6D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50F4-E039-45DE-B67C-916C5CD6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A01911-F2CD-47D6-9798-05A1664B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DDC32-2421-4EA3-AFF8-D2694307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E17BD-2D03-4ACA-86F4-B507F4C9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430D7-341D-4246-AFAB-490E4F86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56833-BC1F-48D1-977E-1114AC5B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239D6-8B9B-46F7-B44E-78CFD8EA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3D521-B3B9-437B-A182-3AC30498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3CFAE-37F1-48B4-9F52-9447F047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CE66A-7F49-477E-98EE-6FD597AC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A4CDF-08B2-42B5-B9A2-E3FBFCB7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0521-BC45-4FBC-BB6C-F57F9B9FF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81CF1-EF49-44A8-93F6-02DF0FB2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E313F-B9D6-4910-9B64-DEBD9B5E2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7501F-D923-4467-9575-196634326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2C3F7-033F-4E1E-8FEB-E8B01864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2FFA3A-63EA-4B17-9AA8-467E0DA4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79BF0-1098-41C3-9AC8-7D81EE96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E1D367-498D-4CEC-AB6F-EE2CF0C4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FAB7A5-9CB3-4EA4-9F0C-355E48F8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702C06-4ECC-43DF-9C75-28FCCBBE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AD769-D6E8-4ACC-AA07-A40CF39E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E925-DD79-44D9-9EB5-50E476B8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FCFB6B-047F-4546-820F-7C944ED1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1DE519-0AFC-494A-98F2-3F765EA1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ACE2D-3C84-4E52-A0D6-7B43DC1C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1C90F-D845-4B60-9C15-A8C478B3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DF03C-C605-4931-AA97-393405DAE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E5BB36-375C-4C2D-8705-0BE8B733D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F7C37A-20C2-463D-9EE4-484FFDE7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ABDA71-1BBD-433A-ACA3-D5FE606E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C4E6CD-4416-4DBE-827F-30BF3361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4CCCC2-DB37-4054-8AED-02000B37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3E23-EDB5-49DE-8F45-FC5704CA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A95AC7-76CC-41DE-BC29-AA4627A6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2CBE23-70B4-491B-8236-0BA3B30D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EE08B0-DE32-431E-A6D5-54BCC64F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DD0FC1-AF3F-4DC4-9EF9-19EDEF9A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EFB390-CC1B-48AB-A0BC-BAA6996C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4F3B95-8485-485A-B30C-70C81C2B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E12E4E-82FD-4909-9FE8-B86BA7EF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A62A02-E53B-427E-B079-24645F1E8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0CEDBC-873F-4231-B3DB-BA1C45EE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1129DB-B337-46CD-9617-A68AC5AC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78C8-938F-45AF-9BC5-28C870E7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B95AE0-C8CD-4B23-8469-13DAFE85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6E0320-9B83-4583-BD6A-F24330E5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F5CE4D-9A83-42FD-99A5-39202B9E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D016CA-BD62-4AE7-B1FE-F1BF38DC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6A4E32-D482-4463-870E-B2DC4C44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81461E-D650-4C33-9F32-CBC6B1CB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6CEA0F-4E0A-4790-A2EC-4CFAD7BA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7E21C9-9B69-43A7-87D6-B5EFDA1ED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F608D1-1945-4D5C-992D-23B23EBA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DBB417-389E-4239-A22E-1B758360D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4F5A-FB38-458D-9AB5-8FE74B3C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81F777-4308-486B-BF47-B4C88EE1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DF7AFC-F503-4DFC-88AF-8C7BF491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8DF499-50C2-4E13-A3D4-4AB6275E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F91602-3990-47DA-A89B-0DF54004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5E68F4-863A-4D91-AF14-AC2C5FBD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DBA8D4-A0B6-409A-B868-55882C11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496D17-8EB0-4D64-8F12-41EA324C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A8FC61-CDB1-46E1-A593-DB436D70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8C39F1-76E4-4306-A5F5-7D6847DC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B455E9-95AE-4980-95D9-EC9DCA00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977D-7D09-49CF-82AA-573FEDC5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3F31E3-6EFD-4E16-BB7D-FE813365A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5343B5-826D-49C0-8473-4583734A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10AB0D-94AD-4139-9446-04368129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B9BB8E-BC05-4AA7-9A3B-E1C748AE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2CEED3-6D64-4B79-A8C5-25206D9D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ED494E-A61F-4920-8545-7DCD4D38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4C2CC7-33FB-4C37-BA7F-B41D15E5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22B5DF-8F6F-417F-BE1C-BD5A6859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45525E-5D69-4F1B-A338-6EACCF24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1BCFEF-8F3D-4CFF-8D4D-A9843B18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C2F0-AB84-4B44-97BF-26BE9214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2D2794-F0CA-4A6B-9801-262778A6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E375EB-86F8-463D-9B06-1AED3A4D7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1981F9-CC04-4111-BADB-6C83B5051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E371D6-BC9F-40ED-A306-F06E5EB3E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7A3F8E-57EF-49F8-8B91-710BF64A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554D11-1795-4882-87BB-924F41EA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D96B5B-99D4-44E1-91AA-84135871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ABDA8B-D9E6-4444-9BC8-9EA84D41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6F65C1-E097-4147-99BE-55D6C5C6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F782C6-CE38-4EFA-BE7E-3E608990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0877-9CC5-4D5A-AD46-3936EF56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8007-7D80-4C74-9BBE-382BC4E6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6584FE-7000-4BD7-B883-729212B8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3839FF-D357-4B37-9CCA-BA437E15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FACC81-9689-4A32-B819-7D252A13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608B6C-3A4A-4D6F-8E1A-A1D948621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0F9A20-0837-4EB6-8B31-753A2B18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7380DE-C1A8-4A21-BB79-B1B16BCE1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35BC2D-322E-4B48-8849-0E3EC5D9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9D37C5-DD77-427C-934F-A542D67A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D866B8-6550-461E-AA1D-218FC119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D4F959-ACE7-479E-B2F5-0D55F465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54CF-7DB4-456A-B234-1551CDF4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CA59D1-0AEC-4382-9922-39715530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D1C300-6388-4338-B9AA-8BB012E2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E69639-E6F6-41D5-A5CC-6A5BE757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BE80AF-5C63-4268-9DEF-2E93C0F3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CB92E5-DFC0-4235-B56A-6B494AF4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8C0823-7B8F-4363-8E28-F76D45E9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F94991-B00A-4C04-8CAF-916FECC2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9F57F0-C718-419C-8623-D26530757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1E20F7-6143-4377-86F7-A4B8079B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0EC78E-3158-4FA9-A72D-B7A3FB6D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9181-C344-4690-945F-10470B87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64CDBF-71A5-4AA0-90CB-6E11B1B0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D25D8D-0B26-4126-8909-B3A7A49D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652012-3B5F-4E2C-9E42-72D759AF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8C2286-0B8E-4959-8B9F-000D7FE4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E9500F-8740-459F-9885-4E5F4593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84B722-D8B0-4FC7-9534-3FB92E6A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EFCB81-955B-4343-BD25-0AC0CE22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1F4C3B-6BE9-4214-AA85-AD994D4A6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6F2042-1356-446D-9054-8F45BB8BA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58B77A-51DD-44D9-A78F-CE0C736C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7F75-FC26-436E-BDFB-CB5BD382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F7C712-6161-4083-9548-B642801E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42C4DB-1C97-4BA4-9072-1D643638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D1A029-3A48-4F8D-A3E7-ABE3C5A7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A3308C-E9C4-4B19-8C10-6C51A8DF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D95B22-C5A1-4E15-85F9-0C54F604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0ACB8D-F657-4B88-990F-C02A54FA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407912-2337-4CDE-98A7-603A7880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6AF22F-AFE0-46D0-B299-B5215AA9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EDAC6E-4BF7-4E28-A524-F2239544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CEADF5-060A-43B4-8AEC-540D876BB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065C-9199-4DBE-9C18-8A51B4F2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96B1DC-46A8-4BEC-9692-ACB55F6D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C5B8A2-6B81-47E8-A31E-95844C04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CB9557-02EE-4700-86E4-BFFE6811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226528-B359-4E11-8D3D-5F819372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4E4B64-5F8C-41BF-9D36-F2C51D93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044738-487C-4AB1-A00A-6A645B0F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910520-6A1E-46CB-851E-64BEA96D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384998-668A-4AE2-86B3-1BC65466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CFEB5F-678B-47B6-BA54-E256BA37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AAC08F-D5FB-4684-BFAE-B83FC3F1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1B867-A503-4C89-B38B-A2E57258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3956CB-E4E8-4762-A245-5982F6F8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EE495F-024C-431F-AF58-7F2E9FB8B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C0CECE-F2D8-4537-8AFC-AC7CA215B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33C55F-69C6-4754-BE7E-0CFC6C9D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264548-A66D-4583-A37F-DDF133F7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010818-C7D0-43E7-8E57-B350C15F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CF6165-01C1-4A30-81BD-63A90579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F0AD48-29E3-48B8-AFBA-06BDDBE4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E35385-009A-4AD9-9FEA-F4E73DC9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34168D-C639-4AC5-9A2A-19974C0A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07189-1C92-4D8A-9469-0086F548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328931-95B8-455E-B209-16B0F48A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7CA4E2-1E29-47C3-A2D0-0F29C755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48C432-9474-4095-97D8-B91A613B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A628B4-9E53-40AE-AEE3-76FCEC939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D11DB3-7E96-4883-BAA8-1E07AD7C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2922B6-5DA9-4BDF-BAEC-8852F0E4C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27E127-F6F7-4144-9BC4-E57607A6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456C6B-4EA2-415C-A5B0-427F93E6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352349-D0A6-4190-AD7D-9109CA50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3B2298-56AD-49CB-BACC-57B8D53A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5EC32-6330-49A6-B3B9-51CC49B9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80A163-09DB-4DFB-8643-0A9B2BC5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314A39-0113-41CA-A830-BD06E3D3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E13B4B-73D2-4A0E-A7C3-C2AD3E5D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85A93F-6BF7-4B09-B14A-29C21F3D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DCEFAF-D4BE-4D41-967D-CBB1C28F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742A3B-3AF7-4EFE-B7D5-5EFBECE5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299C07-3511-4651-83DF-A6090603C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43D59C-2A79-4C30-BCA2-52AA22A0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9A0603-E86B-462E-81B6-236EAB4C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D89430-0FAC-4E4A-8005-973DC7C0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1D05A-CFD2-45D9-8733-D0B64CF8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B8F9C7-09ED-4F29-9794-E9D0B56B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4F943F-A3C9-4154-880C-5452BE51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3A94F8-5356-4A8C-89F7-1CD8F9C3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40FCBA-1AAD-4CF5-AB2A-875DFD53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320F86-1E55-4D7B-8978-464380E4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55FECD-20A5-46BF-A7A8-7E0DD366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10EEF1-AEEC-4DC1-A4BD-CA23C67A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289C35-29EB-4F3E-8B1F-0E00541D7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15AA56-DC7D-4E7C-814D-E23D3A2B9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C4115-90E0-49B9-BDCF-AA7E0091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4D74-E205-416B-9626-C794C852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01F50-201B-4529-A211-58F75AF8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97D9F-DC2F-473E-8179-9E55B1F7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14FB2-4006-487B-B13F-63F70B37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4F98E-6689-485E-BEB6-844198CE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5D623-6C17-46CA-AA20-D0950A24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E42A4-899D-4EED-A809-E366E8106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C2993-D959-4409-9E29-9158B67D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4A359-15E5-4DE0-9DFD-83435D3B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67F9D-35B3-4D89-997F-6B309111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3432C-CE00-4DB0-A953-D65049D1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AADE-62BE-4132-BDE3-A6AE01D3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CC07F-08E2-4413-86EF-2A27E5E7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FA8C1-D0E2-42F0-961B-C8987BFC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B1B46-A884-40D2-B83A-101CC8D4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C3CCB-62EC-4CB7-8492-39C796E3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1FA66-2F10-42C5-9FF6-07972680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AB298-23D4-4021-9A0D-B713B7CD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EE606-6B2B-4250-A299-F4BD16B3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556CF-EC07-496D-8FBC-B4E620FA1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34E54-8FAE-46CF-81EA-9ACBBD9B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86088-E35A-48C6-A328-936961BC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FA7E-2FCA-47B1-B251-16C6735D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02498-479E-4EA9-B2E2-B85EA9B6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A1AAF-F6F7-49AC-8B52-C4E71FDA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B6A83-1738-4790-8BB4-C4D6358D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7C408-A9EC-434B-8EC8-4FCD7EF8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03046-2DED-4260-94B0-E8896A5B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417B0-1087-43F3-A9A1-20F8E989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27109-0F29-47DF-9581-C64B42E0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255A4-D329-4C75-BC4B-3D847421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2ED59-D705-45F9-B3EA-A34E63BD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333F4-05C3-4D9D-A2FC-A36F5DFF3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FB68-29BF-4A9D-837B-C6590BA0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B2F83-A12C-4EDB-987D-040FD381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3641C-4C5E-4516-AD81-0DDC2762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66B0B-6AE7-4BEF-811C-8298F407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44923-89CF-420E-BCFF-DC75B413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7C746-890C-47DF-AFB7-E23F7A64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EA363-E513-4EEF-B3DA-DEA4EBCE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EECD9-AE6F-4D78-ACA8-E0CDB4C3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3846C-D400-4DC7-BCA3-784E3E12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5CE2E-40C9-42E3-A835-023D93FE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63CD7-67DE-4CD7-A10F-F689C415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89ED-F7EA-4037-891A-34F18880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98990-B1E8-405C-B1A2-405468C4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E4D3F-3C9D-4D2C-B7A9-C5581E419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C4118-E41C-4EA9-BECA-A243F32F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9E340-BDAA-4882-A50D-08CD1D96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27BA9-7542-4BB6-B3C7-46C8B828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2166B-E3A0-448B-829E-B188841B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E5BCC-E7A7-44C8-930F-A9964B68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1B73E-EE13-462D-A9F5-6078D4AE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2A654-821D-428B-BE42-E0724EC8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03CE8-927E-4420-B58C-54659A98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9C59-450C-492B-A090-B7F3DB3A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180CF-25DD-49F5-976A-90298C3F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E9816-7BA3-412A-BBB4-B436B266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47C7F-A33A-4987-867A-52B99C43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B5C97-0A8D-4558-B6F2-BB2A4F479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E1529-8B33-4265-9332-E41C09CD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BB4EA-2587-4F99-A949-DA8E6B3B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E27E5-E09B-42FF-9C19-1AF73E9F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510FE-A780-484B-A232-60D99C27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799FA-BC5B-4D92-9444-20DAA42A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8AF69-2B47-4DFE-BE3C-82F0C8E5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70AA-1635-42CF-B2A9-FAC4D188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02085-8C92-4C1B-BC90-6D34906B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F862D-06C2-4D6B-8543-2773F71C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03D09-00EE-4136-BE50-004378DA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E5759-40D1-4C76-BBF8-1E9737CA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ED480-FD42-429F-B896-839188C6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713D9-05EA-4DEB-8030-68CD19CE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A53AF-FA84-4AF0-8C1D-384AF59B6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D65C6-E435-48B5-AE25-AE5A630B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1A741-2A8B-4594-8CD7-F768D92F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2A907-E80E-421F-A53B-90B9469F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A5F7-8A47-41C5-BE3F-A4AA3BB0279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94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9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9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3B22-DCBA-4F5C-90B3-3AAB1FC3F91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4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4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4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293E-75F5-49EE-B413-845F3AD1D52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7A51-7F0E-470F-A593-D20CA179D27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9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0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43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61CA-96BA-4A72-BDD1-F652B16C310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9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0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3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DD98-E153-42E2-B53D-B4C8F5D4AFC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4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0615-AACC-4C61-8908-A1302E6286D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84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8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8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4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9FDE-99FD-4C93-B4FD-9EC23EDCECA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34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3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3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399E-0857-40F3-9837-34595EB5E3B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5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5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37CC-001D-4BDC-B19D-970B9875713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29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830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33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5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8C21-8217-4981-8A34-88B614CE1FB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E1F5-1C1C-4333-9434-D01CE108EAF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79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880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83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 type="ftr" idx="5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 type="sldNum" idx="6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85BB-2AD1-4FA9-84FD-0C5F9C29BA7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ftr" idx="6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 type="sldNum" idx="6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AE62-4498-4C00-977D-017B22E6D63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74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7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7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6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6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C9A8-05FD-408B-A4BD-0AAE4F1B42C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24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2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ftr" idx="6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 type="sldNum" idx="6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49F9-7C33-4180-9D4A-9F63EA8C9F1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 type="ftr" idx="7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 type="sldNum" idx="7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9662-A6F4-4A2B-A2A4-6BAE19AAF94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51A7-4473-4345-BEDA-91A955049E8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42A4-8274-482E-A97C-BD3373DC78D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6AD8-85B3-4D99-A833-333934DB48D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CDBE-E9E0-4577-BFB0-789B6BF5C18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9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0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3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F1AF-9286-42FC-AFB0-5C339EB995D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9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0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3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9D6E-2DA8-4EBD-A148-601EC90FFA6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D934-3034-4F0A-BCEA-967F564D2F5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ps.aw.com/bc_martini_eap_4/0,11295,2680298-content,00.html" TargetMode="External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ерматогенeза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имација сперматогенезе 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683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s://www.youtube.com/watch?v=mK9_6HQbxt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рматогенеза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7354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ични процес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човека траје око 10 недељ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 пубертета у семеном каналићу тестис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лазе се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sr-C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ртолијеве</a:t>
            </a:r>
            <a:r>
              <a:rPr b="0" lang="sr-C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sr-C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ерминативне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568944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ечни пресек кроз ткиво тестиса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1120" name="Picture 3" descr="tea44he"/>
          <p:cNvPicPr/>
          <p:nvPr/>
        </p:nvPicPr>
        <p:blipFill>
          <a:blip r:embed="rId1"/>
          <a:stretch/>
        </p:blipFill>
        <p:spPr>
          <a:xfrm>
            <a:off x="2411280" y="1844640"/>
            <a:ext cx="3810240" cy="476244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4" descr="MREPL08"/>
          <p:cNvPicPr/>
          <p:nvPr/>
        </p:nvPicPr>
        <p:blipFill>
          <a:blip r:embed="rId2"/>
          <a:stretch/>
        </p:blipFill>
        <p:spPr>
          <a:xfrm>
            <a:off x="5811840" y="476280"/>
            <a:ext cx="3332160" cy="219060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5" descr="biol_03_img0271"/>
          <p:cNvPicPr/>
          <p:nvPr/>
        </p:nvPicPr>
        <p:blipFill>
          <a:blip r:embed="rId3"/>
          <a:stretch/>
        </p:blipFill>
        <p:spPr>
          <a:xfrm>
            <a:off x="179280" y="2133720"/>
            <a:ext cx="2152800" cy="3227400"/>
          </a:xfrm>
          <a:prstGeom prst="rect">
            <a:avLst/>
          </a:prstGeom>
          <a:ln w="0">
            <a:noFill/>
          </a:ln>
        </p:spPr>
      </p:pic>
      <p:sp>
        <p:nvSpPr>
          <p:cNvPr id="1123" name="Text Box 6"/>
          <p:cNvSpPr/>
          <p:nvPr/>
        </p:nvSpPr>
        <p:spPr>
          <a:xfrm>
            <a:off x="271440" y="5300640"/>
            <a:ext cx="1187640" cy="5202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емени каналић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7"/>
          <p:cNvSpPr/>
          <p:nvPr/>
        </p:nvSpPr>
        <p:spPr>
          <a:xfrm>
            <a:off x="3852720" y="2133720"/>
            <a:ext cx="1727280" cy="5202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имарне сперматоци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8"/>
          <p:cNvSpPr/>
          <p:nvPr/>
        </p:nvSpPr>
        <p:spPr>
          <a:xfrm>
            <a:off x="3635280" y="3429000"/>
            <a:ext cx="1297080" cy="5202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ертолијеве ћел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9"/>
          <p:cNvSpPr/>
          <p:nvPr/>
        </p:nvSpPr>
        <p:spPr>
          <a:xfrm>
            <a:off x="4937040" y="3645000"/>
            <a:ext cx="127476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пермати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10"/>
          <p:cNvSpPr/>
          <p:nvPr/>
        </p:nvSpPr>
        <p:spPr>
          <a:xfrm>
            <a:off x="1763640" y="4221000"/>
            <a:ext cx="17272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перматогон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11"/>
          <p:cNvSpPr/>
          <p:nvPr/>
        </p:nvSpPr>
        <p:spPr>
          <a:xfrm>
            <a:off x="3079800" y="6021360"/>
            <a:ext cx="1187280" cy="5202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латки мишић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12"/>
          <p:cNvSpPr/>
          <p:nvPr/>
        </p:nvSpPr>
        <p:spPr>
          <a:xfrm>
            <a:off x="6819840" y="2708280"/>
            <a:ext cx="2073240" cy="5202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перматозоиди у лумену сем. каналић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Picture 2" descr="spermatogenesis"/>
          <p:cNvPicPr/>
          <p:nvPr/>
        </p:nvPicPr>
        <p:blipFill>
          <a:blip r:embed="rId1"/>
          <a:stretch/>
        </p:blipFill>
        <p:spPr>
          <a:xfrm>
            <a:off x="3546360" y="260280"/>
            <a:ext cx="5256360" cy="6335640"/>
          </a:xfrm>
          <a:prstGeom prst="rect">
            <a:avLst/>
          </a:prstGeom>
          <a:ln w="0">
            <a:noFill/>
          </a:ln>
        </p:spPr>
      </p:pic>
      <p:sp>
        <p:nvSpPr>
          <p:cNvPr id="1131" name="Text Box 3"/>
          <p:cNvSpPr/>
          <p:nvPr/>
        </p:nvSpPr>
        <p:spPr>
          <a:xfrm>
            <a:off x="3708360" y="476280"/>
            <a:ext cx="1655640" cy="5202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перматогонија 2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 Box 4"/>
          <p:cNvSpPr/>
          <p:nvPr/>
        </p:nvSpPr>
        <p:spPr>
          <a:xfrm>
            <a:off x="6659640" y="476280"/>
            <a:ext cx="99036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то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5"/>
          <p:cNvSpPr/>
          <p:nvPr/>
        </p:nvSpPr>
        <p:spPr>
          <a:xfrm>
            <a:off x="3635280" y="1628640"/>
            <a:ext cx="2089080" cy="5202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имарна спматоцита 2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6"/>
          <p:cNvSpPr/>
          <p:nvPr/>
        </p:nvSpPr>
        <p:spPr>
          <a:xfrm>
            <a:off x="6659640" y="1916280"/>
            <a:ext cx="1297080" cy="73332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ва мејотичка део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7"/>
          <p:cNvSpPr/>
          <p:nvPr/>
        </p:nvSpPr>
        <p:spPr>
          <a:xfrm>
            <a:off x="7667640" y="3141720"/>
            <a:ext cx="1135080" cy="73332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руга мејотичка део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3635280" y="2708280"/>
            <a:ext cx="1440000" cy="73332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екундарна сперматоцит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9"/>
          <p:cNvSpPr/>
          <p:nvPr/>
        </p:nvSpPr>
        <p:spPr>
          <a:xfrm>
            <a:off x="3259080" y="4005360"/>
            <a:ext cx="1297080" cy="5202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перматиде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10"/>
          <p:cNvSpPr/>
          <p:nvPr/>
        </p:nvSpPr>
        <p:spPr>
          <a:xfrm>
            <a:off x="2987640" y="5157720"/>
            <a:ext cx="1566720" cy="5202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перматозоид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11"/>
          <p:cNvSpPr/>
          <p:nvPr/>
        </p:nvSpPr>
        <p:spPr>
          <a:xfrm>
            <a:off x="7956720" y="5157720"/>
            <a:ext cx="99036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ла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12"/>
          <p:cNvSpPr/>
          <p:nvPr/>
        </p:nvSpPr>
        <p:spPr>
          <a:xfrm>
            <a:off x="7885080" y="5589720"/>
            <a:ext cx="99072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р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13"/>
          <p:cNvSpPr/>
          <p:nvPr/>
        </p:nvSpPr>
        <p:spPr>
          <a:xfrm>
            <a:off x="7812000" y="5877000"/>
            <a:ext cx="99072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е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14"/>
          <p:cNvSpPr/>
          <p:nvPr/>
        </p:nvSpPr>
        <p:spPr>
          <a:xfrm>
            <a:off x="6983280" y="981000"/>
            <a:ext cx="216072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аст и диференцијац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36352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ордијал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рматогоније   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е сперматоците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ндарне сперматоцит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рматид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е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рматозоиди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45920" y="163440"/>
            <a:ext cx="525636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рмиогенеза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46" name="Picture 4" descr="200402260004"/>
          <p:cNvPicPr/>
          <p:nvPr/>
        </p:nvPicPr>
        <p:blipFill>
          <a:blip r:embed="rId1"/>
          <a:stretch/>
        </p:blipFill>
        <p:spPr>
          <a:xfrm>
            <a:off x="250920" y="1052640"/>
            <a:ext cx="8893080" cy="5543280"/>
          </a:xfrm>
          <a:prstGeom prst="rect">
            <a:avLst/>
          </a:prstGeom>
          <a:ln w="0">
            <a:noFill/>
          </a:ln>
        </p:spPr>
      </p:pic>
      <p:sp>
        <p:nvSpPr>
          <p:cNvPr id="1147" name="Text Box 5"/>
          <p:cNvSpPr/>
          <p:nvPr/>
        </p:nvSpPr>
        <p:spPr>
          <a:xfrm>
            <a:off x="1116000" y="1125360"/>
            <a:ext cx="990720" cy="4590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олџијев апара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6"/>
          <p:cNvSpPr/>
          <p:nvPr/>
        </p:nvSpPr>
        <p:spPr>
          <a:xfrm>
            <a:off x="1116000" y="1557360"/>
            <a:ext cx="99072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кроз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 Box 7"/>
          <p:cNvSpPr/>
          <p:nvPr/>
        </p:nvSpPr>
        <p:spPr>
          <a:xfrm>
            <a:off x="2050920" y="2924280"/>
            <a:ext cx="99072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Центриол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 Box 8"/>
          <p:cNvSpPr/>
          <p:nvPr/>
        </p:nvSpPr>
        <p:spPr>
          <a:xfrm>
            <a:off x="684360" y="2924280"/>
            <a:ext cx="99036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уклеу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 Box 9"/>
          <p:cNvSpPr/>
          <p:nvPr/>
        </p:nvSpPr>
        <p:spPr>
          <a:xfrm>
            <a:off x="3203640" y="2924280"/>
            <a:ext cx="122400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кротубул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10"/>
          <p:cNvSpPr/>
          <p:nvPr/>
        </p:nvSpPr>
        <p:spPr>
          <a:xfrm>
            <a:off x="3348000" y="3213000"/>
            <a:ext cx="99072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Бич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11"/>
          <p:cNvSpPr/>
          <p:nvPr/>
        </p:nvSpPr>
        <p:spPr>
          <a:xfrm>
            <a:off x="4500720" y="1355760"/>
            <a:ext cx="122364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тохондриј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 Box 12"/>
          <p:cNvSpPr/>
          <p:nvPr/>
        </p:nvSpPr>
        <p:spPr>
          <a:xfrm>
            <a:off x="6043680" y="1849320"/>
            <a:ext cx="99036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уклеу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 Box 13"/>
          <p:cNvSpPr/>
          <p:nvPr/>
        </p:nvSpPr>
        <p:spPr>
          <a:xfrm>
            <a:off x="6043680" y="1573200"/>
            <a:ext cx="99036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кроз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14"/>
          <p:cNvSpPr/>
          <p:nvPr/>
        </p:nvSpPr>
        <p:spPr>
          <a:xfrm>
            <a:off x="5724360" y="3500280"/>
            <a:ext cx="1133640" cy="4590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дбацивање цитоплаз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15"/>
          <p:cNvSpPr/>
          <p:nvPr/>
        </p:nvSpPr>
        <p:spPr>
          <a:xfrm>
            <a:off x="6200640" y="4946760"/>
            <a:ext cx="99072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еп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16"/>
          <p:cNvSpPr/>
          <p:nvPr/>
        </p:nvSpPr>
        <p:spPr>
          <a:xfrm>
            <a:off x="7236000" y="3141720"/>
            <a:ext cx="99036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ра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17"/>
          <p:cNvSpPr/>
          <p:nvPr/>
        </p:nvSpPr>
        <p:spPr>
          <a:xfrm>
            <a:off x="8388360" y="3141720"/>
            <a:ext cx="99072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л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18"/>
          <p:cNvSpPr/>
          <p:nvPr/>
        </p:nvSpPr>
        <p:spPr>
          <a:xfrm>
            <a:off x="0" y="765000"/>
            <a:ext cx="172872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пермати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19"/>
          <p:cNvSpPr/>
          <p:nvPr/>
        </p:nvSpPr>
        <p:spPr>
          <a:xfrm>
            <a:off x="6948360" y="6381720"/>
            <a:ext cx="187164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перматозои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перматозоида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1163" name="Picture 2" descr="C:\Users\Bilja\Desktop\gradja spermatoyoida 3.png"/>
          <p:cNvPicPr/>
          <p:nvPr/>
        </p:nvPicPr>
        <p:blipFill>
          <a:blip r:embed="rId1"/>
          <a:stretch/>
        </p:blipFill>
        <p:spPr>
          <a:xfrm>
            <a:off x="0" y="2575080"/>
            <a:ext cx="9144000" cy="27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ја сперматозоида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10920" y="2707920"/>
            <a:ext cx="7777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eтљив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живљавањe сперматозоида и способност оплође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монска регулација сперматогенезе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10920" y="2707920"/>
            <a:ext cx="74278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убертет: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њи режањ хипофиз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SH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H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SH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лује на сперматогенез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H</a:t>
            </a:r>
            <a:r>
              <a:rPr b="0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средно) - утиче на продукцију тестостерона (Лејдигове ћелије у тестис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8096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малије сперматогенезе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4278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ан број: од 2,25 до 544 милона/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ечно 120 милона/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малиј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броју сперматозои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рађи сперматозои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0" name="Picture 2" descr="C:\Users\Bilja\Desktop\anomalije spermatoyoida.png"/>
          <p:cNvPicPr/>
          <p:nvPr/>
        </p:nvPicPr>
        <p:blipFill>
          <a:blip r:embed="rId1"/>
          <a:stretch/>
        </p:blipFill>
        <p:spPr>
          <a:xfrm>
            <a:off x="971640" y="3781440"/>
            <a:ext cx="6697440" cy="2960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21:33:24Z</dcterms:created>
  <dc:creator>User</dc:creator>
  <dc:description/>
  <dc:language>en-US</dc:language>
  <cp:lastModifiedBy>Korisnik</cp:lastModifiedBy>
  <dcterms:modified xsi:type="dcterms:W3CDTF">2018-11-09T06:54:41Z</dcterms:modified>
  <cp:revision>231</cp:revision>
  <dc:subject/>
  <dc:title>MUTACIJE GENA</dc:title>
</cp:coreProperties>
</file>